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C0C-E174-45DB-B946-D53D1697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B69-5D73-4288-869D-FAF89D78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0AA-EDCE-4E4C-9D77-CA4F9B66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621-5946-48FF-B6D0-31276120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3085-7FCC-47C5-8FD6-837053B7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89D-FF49-42FE-8499-39554C34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E6B0-5851-4233-A588-767529F3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22CF-39F7-4722-A070-10F6B05A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C69C-9773-47E7-B2E6-94615A57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42F2-19AA-4BE8-9EDF-00058A83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A831-0256-4C4F-88F2-5CFE7CD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868-4922-41CB-9A13-E4A1D8FB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7637-0435-47CB-BB87-59F71DC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6EEA-A3C5-41F1-926C-2E3A5AA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2B9C-35D7-4816-9510-F240E5F6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4A4B-6F3B-47DE-A6E4-C0F1DE44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3FEF-641D-481C-9B8D-9370C4EC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4986-BA0F-4917-9177-94564BD0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A103-FAC5-481D-A3B7-5F89A6A5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29B4-E727-4560-A46C-2887468F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A941-3150-4D3F-927B-896C0E44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BA63-3269-46AB-9657-CD1668DC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7A0-F362-4913-AF16-8C638C7B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98AE-73DB-4D93-B0F9-1FE7B66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1355-4472-4011-9CEB-094E7F07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FA54-78CC-462B-98D9-2841FC46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A12B-163F-4A0C-9BD3-FA1F9C9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05C68-007D-4A36-B0C1-B95BC7CE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15E0-F863-4A1F-9789-08B98146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E914-0CD5-4D29-ACA3-39C05520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47EBD-15AF-4561-8132-4AFB87F7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AAE5-E0E4-4471-87FC-E4B8217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6A52-51DF-4023-9478-0A460089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70A-A3C1-474B-8A04-2F2ACE37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37784-625E-4F50-897D-CB85D78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0278-B9F7-4CD0-B4F7-79BCA56A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EDF7-7DBE-4671-9521-5F277C6A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E799-4789-4A1F-8B73-58D61004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FFBB-C181-4B3B-B0F2-93576DEA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683D-7F3F-4AB7-AFA9-8A037BB3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7FBA-5240-4C1E-BD65-111164B4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BD50-BE53-4FAE-823F-A2AB2D67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2FA1-3DAD-4049-B301-38121AF7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F22B-56A4-4DE3-86A6-78D223C0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ECB-A954-4E5D-93F3-D4A57EF1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9DD27-8C96-4206-BA05-2C79D9B3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E8D3-446C-4ADC-92F0-82A932A3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E90F7-395C-4E39-939C-A53DA770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24BD-64C6-46C5-925C-59CEE656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AD4BC-D7F3-4A88-9E30-5135FC46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C9BF9-7735-4991-B9DE-E133FFF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4292A-4794-4DEB-ADA5-040BC4B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E940-75B8-4610-8B4D-77A9CE03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038C8-331B-4070-AD92-B97318B2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79C0F-3A95-4857-92C5-049ACCED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3F0-8403-46CE-9E19-550826C2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A299C-28DF-4FF4-9EAB-96AE3D31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D6FA-4281-4607-9003-482EAF75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38F36-A6B1-4D6D-851B-1E7A5589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9942A-BD78-4026-8A7A-EAC2447E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ADFF-9E20-4E8E-AE6B-AAE15048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54819-6D96-490A-BC80-846F8B48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E3C31-3453-4ED1-95AE-5EB705C9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435A1-D839-48AF-B21C-1FA519C7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439EB-7928-4CF6-9806-E91BA48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F4D3C-0F73-423B-A192-EE228F0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D49-3280-4EF6-BD3C-25081D1E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429E7-BF4E-40FC-854B-27448503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E12AF-099E-4ED6-B80A-6BD02618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FCF0F-BF43-42A8-83CE-61894231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8AB7-AB7E-48C8-A1C5-1CD6A3B0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A9628-E834-4351-B64D-97FACF06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CF6EC-967C-4DAB-B12E-D143AEA3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45D02-171B-42B2-8DA0-6367555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90830-87FD-460F-AF8E-EB12BEFA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CE7C3-D6D2-47FD-9DF4-D96DE45D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CE4C4-1E86-43D6-8680-060E913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CCD-8BF7-4B5C-9B3E-0B4E46B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B238D-1DD1-41A9-9A20-7661360C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A09A-0554-4281-89FA-5F674E8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96CF-EDFD-4D1B-80E1-1CBC3F90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F4059-C7F0-4B29-8BCC-E9ACB653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381EB-4195-4F5C-BA65-D1516E72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948-4EDC-4948-93C1-09FDD63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2809-7508-4D28-87A3-D7461FB45B0E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0080-C635-45C6-8B65-8FFC2BCD4881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8BA3-BEEF-409C-8B28-CBF1A42E866E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D805-3A59-49CD-88EB-4F39C808770D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B30C-ADCE-4306-9821-EC575C8E7EA2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E42C-DCBD-4487-93B5-DA994E49E9FB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49CF-8489-47E8-A395-F8327E1811DB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867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Which piece of lab equipment would you use to measure exactly 25 mL of water?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Rectangle 12" descr=""/>
          <p:cNvPicPr/>
          <p:nvPr/>
        </p:nvPicPr>
        <p:blipFill>
          <a:blip r:embed="rId1"/>
          <a:stretch/>
        </p:blipFill>
        <p:spPr>
          <a:xfrm>
            <a:off x="2157480" y="2706840"/>
            <a:ext cx="969840" cy="82836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3" descr=""/>
          <p:cNvPicPr/>
          <p:nvPr/>
        </p:nvPicPr>
        <p:blipFill>
          <a:blip r:embed="rId2"/>
          <a:stretch/>
        </p:blipFill>
        <p:spPr>
          <a:xfrm>
            <a:off x="4809960" y="324324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14" descr=""/>
          <p:cNvPicPr/>
          <p:nvPr/>
        </p:nvPicPr>
        <p:blipFill>
          <a:blip r:embed="rId3"/>
          <a:stretch/>
        </p:blipFill>
        <p:spPr>
          <a:xfrm>
            <a:off x="7242120" y="30909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5" descr=""/>
          <p:cNvPicPr/>
          <p:nvPr/>
        </p:nvPicPr>
        <p:blipFill>
          <a:blip r:embed="rId4"/>
          <a:stretch/>
        </p:blipFill>
        <p:spPr>
          <a:xfrm>
            <a:off x="4280040" y="5297400"/>
            <a:ext cx="987120" cy="828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6" descr=""/>
          <p:cNvPicPr/>
          <p:nvPr/>
        </p:nvPicPr>
        <p:blipFill>
          <a:blip r:embed="rId5"/>
          <a:stretch/>
        </p:blipFill>
        <p:spPr>
          <a:xfrm>
            <a:off x="3809880" y="114300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"/>
          <p:cNvPicPr/>
          <p:nvPr/>
        </p:nvPicPr>
        <p:blipFill>
          <a:blip r:embed="rId6"/>
          <a:stretch/>
        </p:blipFill>
        <p:spPr>
          <a:xfrm>
            <a:off x="7010280" y="114300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7" descr=""/>
          <p:cNvPicPr/>
          <p:nvPr/>
        </p:nvPicPr>
        <p:blipFill>
          <a:blip r:embed="rId7"/>
          <a:stretch/>
        </p:blipFill>
        <p:spPr>
          <a:xfrm>
            <a:off x="7327800" y="5224320"/>
            <a:ext cx="957240" cy="822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http://www.msnucleus.org/membership/html/k-6/as/scimath/3/images/assm3_5a2.gif"/>
          <p:cNvPicPr/>
          <p:nvPr/>
        </p:nvPicPr>
        <p:blipFill>
          <a:blip r:embed="rId8"/>
          <a:stretch/>
        </p:blipFill>
        <p:spPr>
          <a:xfrm>
            <a:off x="6324480" y="3657600"/>
            <a:ext cx="1067040" cy="266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"/>
          <p:cNvPicPr/>
          <p:nvPr/>
        </p:nvPicPr>
        <p:blipFill>
          <a:blip r:embed="rId9"/>
          <a:stretch/>
        </p:blipFill>
        <p:spPr>
          <a:xfrm>
            <a:off x="1143000" y="4038480"/>
            <a:ext cx="3429000" cy="2497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http://www.columbia.edu/itc/chemistry/chem-cf1500/labpix/images/longstemfunnel.jpg"/>
          <p:cNvPicPr/>
          <p:nvPr/>
        </p:nvPicPr>
        <p:blipFill>
          <a:blip r:embed="rId10"/>
          <a:stretch/>
        </p:blipFill>
        <p:spPr>
          <a:xfrm rot="1954200">
            <a:off x="1464840" y="1285560"/>
            <a:ext cx="1143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867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Which piece of lab equipment would you use to measure exactly 25 mL of water?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6" name="Rectangle 27" descr=""/>
          <p:cNvPicPr/>
          <p:nvPr/>
        </p:nvPicPr>
        <p:blipFill>
          <a:blip r:embed="rId1"/>
          <a:stretch/>
        </p:blipFill>
        <p:spPr>
          <a:xfrm>
            <a:off x="7327800" y="5224320"/>
            <a:ext cx="957240" cy="822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3" descr="http://www.msnucleus.org/membership/html/k-6/as/scimath/3/images/assm3_5a2.gif"/>
          <p:cNvPicPr/>
          <p:nvPr/>
        </p:nvPicPr>
        <p:blipFill>
          <a:blip r:embed="rId2"/>
          <a:stretch/>
        </p:blipFill>
        <p:spPr>
          <a:xfrm>
            <a:off x="6324480" y="3657600"/>
            <a:ext cx="1067040" cy="266688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16" descr=""/>
          <p:cNvPicPr/>
          <p:nvPr/>
        </p:nvPicPr>
        <p:blipFill>
          <a:blip r:embed="rId3"/>
          <a:stretch/>
        </p:blipFill>
        <p:spPr>
          <a:xfrm>
            <a:off x="993600" y="1884240"/>
            <a:ext cx="7216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4T04:19:29Z</dcterms:modified>
  <cp:revision>137</cp:revision>
  <dc:subject/>
  <dc:title>Slide 1</dc:title>
</cp:coreProperties>
</file>